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29F7-5E50-4E28-A2FA-B6F6B6F73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54ED-4C2D-4BB4-BBE3-B449649A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49D22-C506-4A0A-B2A3-D90891DE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DA6AB-A634-4904-A6DB-3605F226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5945B-1461-48AB-B12C-1519FC8F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0479F-4225-44BC-A288-03BD3DFC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77CBE-4ACA-48A1-AF16-61489B26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17C02-090E-4084-AECF-312B911C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D080D-D1A6-4DCD-964B-6194181B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87BE3-1F0F-4C49-8270-A7AE97E5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8D5B7C-F5C1-4F38-BB5B-EC340EE20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1671A-7004-45C3-A39C-2A990A86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B1BC-8C05-42D5-99B4-D95C55BE6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CD68F-6A2B-48CB-8C89-60C4F470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317DA-2125-4903-9570-D6DB047B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E4BEF-90D9-42A5-A3AB-363A7A7C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73A18-0AB6-4DAE-A85F-9AD63481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46061-63B3-4F67-A55E-5BF0941F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DB579-B780-4177-89F9-88590442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7E41DF-F759-46AE-A0D0-A3589B32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67EBD-AE5C-448F-92CC-62F1C0A3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F5B91C-1D4E-4555-B726-754E375C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D4B2FE-FDD8-4AAC-A974-FEA4012F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3C9D-920F-46DB-886B-D243EB68A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37411-A5BC-48DA-9C5E-E4B9B7095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A2947-B372-4E6E-B77F-2A1EA7E8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AFA40-2BCA-4C36-A65C-C492A21B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C76C6-17AC-4518-B98E-5C9061C2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53136-90A6-4E57-B089-A5312C19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A96DA-1156-405F-B3B7-914E3A87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5C00B-883A-4160-87E2-0D487B8F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A0423-0748-4B6C-809D-F9AEC8B2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B9432-DA53-4B2B-A171-C7672684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EA77E-9F92-490E-BAD5-13A17296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A062-4398-4F4F-A69F-C38C21D9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5D864-83AD-42A7-A365-8A5C7EBE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AB167-2B10-4390-AFBE-1971A0599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D8E02-F6FF-4016-AF09-3F4F10C6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986FE5-1206-4C33-AC46-C6C58FCA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E5A52-76B4-46E6-9071-5FA44680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19E59-354E-4872-8284-769B5C02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8DE16-3AD3-4165-A644-E31D49C7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DC7F9-604D-4D52-97A6-2989B4EA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B4574-87B2-4840-96F2-6FB755DF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CCEB8-8C15-495C-B538-0FDB6214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F0A1-BDD5-4CCD-9269-12C843F6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96D535-3159-4CC5-BBD8-14260608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2B16D1-42FD-4AE3-B1B8-6D9EED84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28C08-CA09-476C-B08F-5D3396F3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88180-F839-4CB9-A4ED-49078D77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4F2BFE-DF20-4F87-9C0A-4810CDA6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46E506-30E9-446A-A150-EE26BE00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B195B9-2B7F-4CC9-99A4-838FB265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F0B263-C6F1-486F-992F-ED1DC92F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6E0BDF-CA2E-4289-B32D-4442D917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2051CF-B1BA-42FD-ADA2-4DB04A52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34DA-B0CE-4A0A-8D9C-A5DFCC69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9BC998-A34C-4024-AA44-F2003683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69EE11-6D3E-4F3E-90D5-59DFBE79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17B3DF-2442-421A-B066-1EBAE920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D61765-9029-4B86-9826-5CDAF34C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186FC9-05BA-4546-BD0F-07445818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8E318C-F282-4DFE-BEE5-67269A69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89FB98-A7A1-4185-A4B9-F049C3A7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67F7CF-A24B-4854-AE4D-830BE3F6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356FC8-7826-4BB0-96FF-210F3DB3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6BA8FB-E94C-4DB0-8924-710A2DC8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1649-9517-444F-8DBE-B952701A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2B76FA-0DB5-4F9C-939C-D0F2BDF6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CA705E-BA9D-40EA-9B97-3F15C08B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6DE4B0-BD6A-4FB6-BC66-E35F00DF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5C5127-101F-4048-B13C-C0C91495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B2C747-46C7-4C4E-BB31-311428A3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8585D1-3E71-492E-8C8F-F3485505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BE8422-0DC3-4CA0-BA20-48610A8A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A33C16-69D9-40DD-9D65-8D006DE2A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923640-9B54-4C33-B55C-FA0263460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63EFD7-8DD9-439D-8584-C5FCC242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94A9-B6E6-4479-B603-5C6E2181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0EFBCA-EB88-46FA-B4DB-504E5993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D373B8-8606-456B-ADA3-FD205D78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459111-593A-4B64-9684-81C3C189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E5F47C-0450-4C38-A18B-CDC75AA5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BC3A4B-76B6-4089-ACAA-C59776BF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5BF777-3EB5-4E8D-A7D3-A4935176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4EB234-885B-45F8-A9A0-1F9CF213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061886-A99A-4892-913E-BEFF0B98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DA112A-C5DE-445D-A7BC-0D43136F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FC70B0-23CD-4486-AD53-083B656BF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C377-4B93-46B8-8B0D-AD8D955E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DF0DFE-8430-4F86-A3A1-E5CAF995D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59464E-EDF4-4644-A12A-ED22CB7D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054F55-2CF0-4FAA-93F2-AB66360E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101A3E-E13B-465A-9693-E0AEC92D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DCD1A1-6B99-4987-B106-36C40BE9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EF7127-5789-4589-9BE0-E15CB055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B7D3C7-EAB1-4E5F-8C59-568A071D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6F6FA0-A7A4-414E-8B3C-68EE5EA8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667718-05C8-40D8-AC61-66FF5EB7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4A583C-537A-42BD-A2E9-5ED7785B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AAF5-38AA-4337-8230-72DC5FEA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837D28-5C67-45B5-AEA8-7093E3E8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53122F-77B6-4F41-A965-13E06A67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02ABDA-1D3C-4607-8911-316B0A51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78C1BD-9329-4E36-8E89-5055B818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F43F6A-43EF-4870-957D-064BDF60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979E9C-F3E3-4AC0-BB18-D629F7C2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122995-CB46-4739-905B-86E5C9E1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017F31-5017-4DBF-977A-8608D395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1F65F5-6120-4DD9-9384-5E236170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3AC9D8-C9B6-4969-A9BB-62160F1C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2397-6B03-4003-89DC-2AE02CD7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BCE0-88E7-4A94-8F72-74112FF5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FD3B2C-15AA-441B-BC1C-832DD141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67706A-9A88-404D-A2E3-ACF80DB7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73A38D-AE0F-4A45-B331-66AEA1A2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472FC7-F940-4471-A6DD-36B8CE06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2FB986-6E59-430B-A932-140C3DAF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72F999-678A-4E68-9C5A-94D61C40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4ABC06-4435-4C8F-8742-759D0FC2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E486A0-8771-454C-93CF-BEDE9FD4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C01863-4504-4593-8CED-6AE54FE1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0DF01E-D40B-4EDA-BF01-8DA916DE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9E6D-E3FA-4B27-B856-EE170E9C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48D551-45BE-48A9-81BA-0F5F60E6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D85281-B27F-474E-A69A-49836D35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4103BA-6EF4-4A03-BDBB-FBA0F5D2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597D33-D779-4E9C-8A0D-E211991D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B03F59-2E13-4936-A4F1-C8F4AF42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F47135-8F10-4190-8F0A-642EE22B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BC2A0F-7AAC-4948-A2D5-86963AB0C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3BEF47-E0FC-4A1B-9602-36459C7A3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0649E7-6C76-49AF-9E46-06D787FF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6E426D-4617-445C-B90F-5B3F7E89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8BF0-E1F3-48DE-BAAA-D55A3C2C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0D4634-86F4-467C-94F4-13AE3222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28D4A3-AD46-42F6-ADA0-16D2BD33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238E09-7CDD-43C7-9B2F-B81CA8BE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4EDCE4-24B7-49FC-B599-D134B3A4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52C202-51CF-4AA7-9DAC-459C03AB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3B9EB7-08CE-4380-B09C-3DB4474F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BBA77E-6870-47F5-85C0-7199E617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571F99-B1CC-47EA-BF93-6658BDB3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77B199-335B-4F7B-8FC9-BB24EF04F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D8838B-48F4-4A2B-9872-340BEC92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8DBE-1A42-48EC-813A-4D50A7DF6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41A025-2BA5-44A2-AE87-8BD3AA2D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392526-9B85-4BFC-8FD7-60DF95B8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191E74-9AC0-4216-855A-24BD920F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E80BC6-50D3-4055-821F-517EDD9D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D18673-68B3-4C2D-93CC-EDA0AFBA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D1AE5A-D6FC-4D53-A4FF-05A37998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3CB705-4FA0-450E-83D3-E0123BE0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731371-C1A0-402E-8257-11919D27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8FCE51-91DC-49F4-B734-C4234B4E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75BB9E-545B-44BA-B876-A2E0035C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447B-8A25-4994-BE36-57126C84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EE5B4B-374C-4880-9D49-8E1F3E6D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C097A2-AF20-463A-AD07-DFC552BC0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FCE4EE-4960-46A7-BC5D-20524451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55376A-4F3E-40AB-9082-434E12BF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0780B1-5255-4D1B-A9BA-A3E9E26F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EEC85B-C010-4935-A0EC-6E59ECA8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3E3F16-8591-4B15-9B05-5CCDD544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7A63C9-32F1-4A42-B5E5-A772A47D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BBDDFE-6275-47CB-B197-4C38CF35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2424D5-7A81-4C64-86B0-8F209FB0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9A3D1-043C-4E22-BD1A-47A6C909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ED2C88-52E9-490C-B14E-234B281B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940F37-39A8-452F-83FC-A8081D20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E91C94-82C8-444B-AC17-1249DA64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D942CF-5674-48F3-AD2F-A04E24D5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6853F9-A691-4D3C-AEBB-56496B94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4E3971-0081-48C8-BC31-C8E14C97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704556-EDD0-4F51-A195-018A6484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21D48B-FCB8-4D24-B7E3-83DA57B0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3B2758-F4CC-4F2E-AEED-213A1897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CD49D9-B73B-4CCE-90F9-853BBB7F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A52D8-BA5A-4F59-9F7A-A283ADAD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1A92A2-C13D-4158-8980-60B62448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5CC6AC-8A0B-450E-BD06-FEEEE245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10D3AC-83B4-425E-8322-4647E11E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69A4BB-9356-4F5D-9BFD-68E4306A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6F0574-2C1D-4D36-871C-92BCB93C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411EA8-8A29-4AC7-9054-82A2F0DF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A9F146-23A0-4C5E-841B-6E7B5239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B552AD-7473-435D-8475-F5E417D9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E6650D-8D81-4C61-BFF2-3B493B62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60BBD2-8611-4F23-B47C-A3941BCA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78EC1-77F5-4B9D-AF78-F4BC8367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4954CF-EA48-4967-A8A8-9CA0D3D9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56D980-490E-48CD-A873-F8C194DF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D43E78-3084-4136-A839-A459CAB7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96D863-ED59-4B05-BFB5-1C38142A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50E13F-DA53-43F3-A5FD-A126C89A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F3BC89-7742-4E32-B9CE-BE3E17EA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900DF5-3D35-46A3-995B-B8760E931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C50A7D-C5AA-4890-B8F6-84152916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D4903E-4601-42B9-B2B7-D8506CF1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34BE34-0B8A-4C27-BC4C-244AFB23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87452-C1D0-4D6A-A92A-A29B3B2C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83770D-4CA1-44A8-8D01-AC535843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97A52D-274B-436B-AAC6-DB7A09EF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E8D1EE-86D5-4B93-9DFB-7B15B361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FDB16F-6E17-477A-825C-987F957C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BECC2F-A3AF-48B5-8502-231DCF2B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916705-7708-4FC7-B390-81B2B0DB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78BA53-21A5-4F09-A8B5-B14A9F0D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744E48-F6AF-46BE-8E41-273231EB4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014C76-8829-44A8-92E3-98B08AF81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54D060-9A98-4D02-B432-B3F03C3D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754E2-D5DD-45E2-BC3C-688041EA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432F81C-A007-4955-8A76-021FA636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350993-47C0-441F-898A-DD0479E3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22D516-AA0B-41DE-B291-B405EDBE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83AA55-8B05-4053-A516-FEB3652D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11DF9D-E136-4D93-A5C1-2BD6243C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202148-626C-4753-B7ED-7DD7CDA1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BF953B-F7F2-4BBB-A696-550344B9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EB7CEC-6F04-46C0-9CA8-D73DE67E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02AEED-013F-464B-AD3E-13706945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AD84ED-9E99-45CD-B6EE-4EE8189AD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117F-C99A-40B5-A72B-5AEF3EAF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BC096-E7DE-4AAC-9641-5BFD8A73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DF8104-8AB5-4661-A2C8-A3961BC70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150C38-FC23-4C0C-96B6-2EC33AFB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6BDC5A-FB6A-4C6A-A1A9-0215610F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2038FF-15FF-4328-B587-3BB2817E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963CC1-AF4D-4060-8B98-2DEA2A6E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C264C21-B65A-487F-85AE-CDA61A28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0F6155-E206-4FD4-A171-C0215AE0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49F14D-D764-4C80-B174-D04335B8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C66389-8BE2-4523-8E37-CAEDCCC3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E3EF20-4205-4195-8BD7-5BB07B30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5F625-1D53-4D45-994A-72C0917F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EA6576-4853-44C7-B4D6-4DA070C0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5EC3DAB-1436-4C1F-813E-A378C7CA2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B37E38-B182-498D-A85B-EF15AFFD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B8DCF4-41AB-4477-96EE-BCB626783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012AD4-3F83-4181-8106-145102DF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318171C-4A70-4A5D-AEAF-E1BC23BC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62B133-6D56-49AD-B698-5EA74108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B7224E-5160-4A7C-9718-7A94218F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AC0CC8-472E-452A-AC70-5C336ABB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F0742B-7D7D-47AF-AE11-BD37AFB9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8FC07-6297-4622-87DE-316657BE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D142BB-A5BD-45AE-8518-A55441B1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DA5193-2A16-43C0-AE7F-1CE01C8A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C682E5-AD6F-4224-A8D2-D0E332A0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EB153B6-2959-4E38-9410-66322535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821AE7-33AA-45EE-AB54-FF6D95F63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56C3681-762E-4AA4-B728-57A8B05B1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D46E90-AFB6-4A6A-865F-961832F8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B7A3A9-7102-46CD-BABD-86FE2880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21F6B15-1EEB-44A4-9AF9-86D269FB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64A350-EEFF-44E6-BD83-71F3FFBB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3E48B-EE3E-4A4B-AB86-EBC6D4DA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CAF14DF-1A97-4000-81B2-F9483E84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597689-4F85-46E0-8424-FE9F71FD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85A6FE9-5B65-478B-8B0F-7744BFB4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D627189-2B4B-43E8-AF3E-A8153610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7BEAE3A-758A-466D-B444-D501584B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C7C73A-5A20-4B2E-A2D3-6457056FD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06D156-288A-4C4C-9CBC-06528765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16C9BA3-829E-4393-A7DA-D32EF012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60690A6-F959-43BF-A967-5283A486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54745F3-CC3A-44FD-8C9A-99795D48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3F1F3-7409-486F-B3E9-0A8F2708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FF2D9E6-DB19-4EFF-8B11-2302DAEE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279BB2C-3D29-407A-B489-FC09468A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0474E65-9A84-4B6B-AD18-A556AB2E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988493B-9C73-4286-B165-7BBD9A08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54948F-6B58-4E41-9BB9-352915F8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CFEECEE-0CE2-4909-B090-18D01B94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310C001-04A2-4593-B76A-0CEE8C0E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641E1F-2456-4972-8D51-FEBF2DF4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ADD213F-CDAF-4F8E-9879-BCC8F5D3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9509A5-2B6E-407A-A6F9-732818EF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49978-D175-4BCB-9BE6-F5092CE8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2065E7-5AC3-47A0-A8C9-B6552B5D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5621E59-41E9-4B75-B191-BED41E40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DC50823-DEE4-4790-AD2C-7C543CEE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6D8E6A-6D5B-47D2-848B-447FC1FA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08E644D-E685-41F1-8995-98102DED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82BBDDD-7DA0-4BBB-99DC-F0B60F99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9648483-5D57-4769-AA41-4B3F30F7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ADD3EDB-C6CA-4BA8-81E7-1670E8B9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828BF5-C89D-4F68-B6AC-B0084033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8FBCC68-F955-41F6-9F63-1EC666AE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F85BF-13D3-4DBB-B1C8-4165D62A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877D589-2985-4DC8-A77A-2384AA173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1F448B8-81AF-49EB-A626-AED1DD068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028262E-936C-4004-8614-A02BD986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89D4281-1DC4-4535-8D76-11B3D610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72DCB4A-5271-4AFB-9566-21FA8311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1437B38-F329-4F58-BBC5-6B7A127B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DE68AE2-1EB6-42A9-8D8C-43FB1188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EE9B80F-1DC8-42CC-BA11-D5FC7D69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ECC123A-5546-4078-A3ED-19551816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293DFC8-5982-438C-9A3A-415B5A8E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273A2-0ECB-471A-9318-425AB6F65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C16339C-AC90-4F49-8838-53E720BE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86A8E9F-4460-466D-AB45-65276596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62A046-72FA-447F-AD05-FF57A628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89AE9-EA72-46BB-A852-5A3242A9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1D04B-6402-4830-BAC9-86A8FF60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7C77-C5ED-4723-9534-6B5C933F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EFCBA-17FF-40EE-9AC8-67E50B3D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68015-56B4-47B4-BB49-41F06759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398AE-F875-4672-8630-05BF3D06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7B64D-89DD-4025-AB47-0E5C38D7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B95A0-58D5-4ED5-96A3-46536CB8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001E7-51CE-48AF-8B4A-69DCECB9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18A47-2F4F-48C6-8625-072B64C1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49EBD-BC98-4BA9-8F92-C29D4853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77C6B-88A8-4160-A88D-D3768F70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A7597-FAD4-495F-9EDE-AC4A0C11B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6066-0B0A-42F6-8414-A1459E3E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B7A56-203D-404F-97E9-E7BA0D18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DD505-2A17-4098-9D1F-E1F92BAB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242D5-6939-4EB0-9661-52F7585B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F3D97-A4CB-4A69-935D-314DD631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D6435-E6A3-4B47-B597-0E0F9262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F4C61-E669-46A4-8949-11A196F2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70624-C486-492F-8C9E-69115C5D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49583-8898-4E0D-8302-5BD07D43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4381D-B824-4529-ADCC-4D8A8FBC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2C81B-FD31-4D9B-939E-F417B590E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46C2-829B-4E79-8073-DA5303D4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88AE0-B067-458C-952F-0FC8A332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B3FB8-913A-4C93-B898-B1D0C020E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05B6F-A471-46CD-AF4B-1FDC357A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ECAA7-B54C-4970-9686-4542297E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6A66A-4122-42D9-A246-B321206C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DB61C-0655-4029-AA46-14FB70A7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F19D6-CF30-4B73-B018-FCCC6433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9C265-0B0B-4ACF-BDA0-CDF494A8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EEB89-8328-433F-8B5A-2C29A69B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9CCC1-214C-4E67-8CF9-9F3957D8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70EB-C5D8-4C67-BB34-9F1B566A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2B258-20AA-4879-8E77-57DB719E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FFAD2-F0E2-473A-8903-AF13AE2BB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DD01F-37A0-4476-902B-F51CB884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95FDD-23FC-4F6B-B366-3C354D7A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0F0AB-CC49-4E87-B43F-BF63406D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0019B-23FF-4083-AF22-BF125A03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1F067-13D7-48D7-AC65-D088FEFE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0BF73-30A8-49FF-B086-177B2788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87BB0-08D2-415A-89C8-0D2209F1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FBBCA-F1BC-4645-8BEA-5BBF3C96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EABF-B54F-4D90-8F73-6BDF6876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6FCE7-F06C-40C4-948E-04952CBC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F222D-9944-4A01-B9AD-D7DDAB2D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FD21B-8BD6-46F5-B26A-8198E1F5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68D75-D8EE-4C67-BE8A-82DF69CA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B7204-8E86-4B7E-ACE6-36CAED7E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4A46D-8B9F-486E-B4B9-584D8E2D4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3FFF0-A2E8-4458-8F51-97D872D4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421F2-515E-4246-9F68-598F0643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6992E-2BE9-417F-B0E9-D7FC9A22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8FDF2-8EBF-439C-A04B-0996F695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3606-F00B-404A-9E80-FBEAD646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D088C-0764-4F2C-8973-ECA8F54D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4949D-F15D-4491-86D6-AEA6E767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B2424-D604-43C3-836E-01029B8E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5CBB3-B782-434C-9A8E-018F8F83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41777-E773-4165-AC3E-24DDA380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9CE99-E9C0-42E2-BFA6-70A67D81E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A5089-2D25-4810-990B-7F87E453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5DDEB-DF0A-42F3-9613-782725AD2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36E8A-908C-4C17-96E9-D1C186D4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8A440-B3E6-4C8A-ADE0-195FC706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A3D5-F050-48F4-A27A-4E71AD1DF4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C1EE-D95B-42B8-A751-F6ADB971BC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7DE8-72C0-4868-AFA8-1DA2E8938D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704D-0C99-490E-8492-C1A5BD3553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0A12-028A-4039-AD22-91CDD29375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C497-D3A2-43E9-AE9C-C07CF57FFE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6A39-1AF4-47E3-B543-7AAC8119DC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EF0F-9E0C-43F9-A784-6594F97AF8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BD3B-782D-454B-9657-26C9DFDBFD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8506-B396-487C-B996-02198F07DF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0AD8-0166-48E4-AE3C-304CEB928C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2C74-06E8-4E74-8CC8-4166D44D3C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CF0E-5E9C-42ED-A403-B3AB88433C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11C6-E343-40A6-8FDB-AB0EF822B8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6FB3-DE19-426F-906F-B7BE5C0AFA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90EF-B8DA-4E05-979A-88CBA9A09B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2AA6-6CD3-42D7-98A2-0F6A313085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572D-F5C3-4E9A-9050-A49CC8D6DE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B2B7-269B-4376-9F91-4BD40C276C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B3E0-4BB2-491B-B809-5B1D3CB759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8478-4C2F-4AC8-A97E-C42AA77A57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1883-BE4B-4454-B1F2-DC9EEC9827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9137-B1A1-481F-9ED0-6B251C9208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5758-CC7A-4519-AFCA-66E114373E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5B51-A912-48B6-8C00-977FC62424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2E38-3A3B-4F02-9FD6-281BAA3F22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F9EF-A838-4270-8273-61A4B8E0F7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471A-B4A5-4F88-861B-13EC7CD7E7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4EB2-7989-4367-AD56-9A6C324565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37D7-5C7C-4851-9DC9-2581742DE0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A561-FAE3-41EC-AED1-580E539FF3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7A29-0CF9-4112-A759-33F5FC25FE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6D72-B140-4057-8D32-0DA3046AD4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A39C-707A-4483-BDBF-E4AF88BA7F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1456-8958-4870-9A9A-6327904B4C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1B02-7A4B-44A4-A262-987ED76B08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DE71-AFB5-44F8-B468-DAF453FE6F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C0FF-8537-44FE-8CF5-02DFBEE0B2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FE80-4B60-493D-BCB8-DCC99CD666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A6AA-3776-4F21-84D1-8165DAABC0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FD88-F98A-49B5-91CA-E96D3BCA84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F1A6-219C-4703-9EA7-373B77C6E9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1F3D-A888-44B9-A4EA-19C58BE6B3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1E12-CBA1-401B-9221-B670ABA9F2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49B2-6BCE-4608-8251-2E802D6A80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8779-F632-4B17-8C5B-39E00BCEC5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9720-B274-415A-A613-21D3F0D9E0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30D1-77A1-4B3F-9F32-A4BD2C3D61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BF2D-D9DF-4C40-A3B8-6216FD3A7C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5CFE-2E2E-473C-9246-98E725F39C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171360" y="2257560"/>
            <a:ext cx="880128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图片 116737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829720" cy="2762280"/>
          </a:xfrm>
          <a:prstGeom prst="rect">
            <a:avLst/>
          </a:prstGeom>
          <a:ln w="0">
            <a:noFill/>
          </a:ln>
        </p:spPr>
      </p:pic>
      <p:pic>
        <p:nvPicPr>
          <p:cNvPr id="1453" name="图片 116738" descr=""/>
          <p:cNvPicPr/>
          <p:nvPr/>
        </p:nvPicPr>
        <p:blipFill>
          <a:blip r:embed="rId2"/>
          <a:stretch/>
        </p:blipFill>
        <p:spPr>
          <a:xfrm>
            <a:off x="971640" y="3860640"/>
            <a:ext cx="7086600" cy="2019600"/>
          </a:xfrm>
          <a:prstGeom prst="rect">
            <a:avLst/>
          </a:prstGeom>
          <a:ln w="0">
            <a:noFill/>
          </a:ln>
        </p:spPr>
      </p:pic>
      <p:sp>
        <p:nvSpPr>
          <p:cNvPr id="1454" name="矩形 116739"/>
          <p:cNvSpPr/>
          <p:nvPr/>
        </p:nvSpPr>
        <p:spPr>
          <a:xfrm>
            <a:off x="8244000" y="87480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115713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82200" cy="5658120"/>
          </a:xfrm>
          <a:prstGeom prst="rect">
            <a:avLst/>
          </a:prstGeom>
          <a:ln w="0">
            <a:noFill/>
          </a:ln>
        </p:spPr>
      </p:pic>
      <p:sp>
        <p:nvSpPr>
          <p:cNvPr id="1456" name="矩形 115714"/>
          <p:cNvSpPr/>
          <p:nvPr/>
        </p:nvSpPr>
        <p:spPr>
          <a:xfrm>
            <a:off x="8244000" y="72216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图片 114689" descr=""/>
          <p:cNvPicPr/>
          <p:nvPr/>
        </p:nvPicPr>
        <p:blipFill>
          <a:blip r:embed="rId1"/>
          <a:stretch/>
        </p:blipFill>
        <p:spPr>
          <a:xfrm>
            <a:off x="447840" y="2928960"/>
            <a:ext cx="82483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图片 113665" descr=""/>
          <p:cNvPicPr/>
          <p:nvPr/>
        </p:nvPicPr>
        <p:blipFill>
          <a:blip r:embed="rId1"/>
          <a:stretch/>
        </p:blipFill>
        <p:spPr>
          <a:xfrm>
            <a:off x="195120" y="1766880"/>
            <a:ext cx="8753760" cy="3324240"/>
          </a:xfrm>
          <a:prstGeom prst="rect">
            <a:avLst/>
          </a:prstGeom>
          <a:ln w="0">
            <a:noFill/>
          </a:ln>
        </p:spPr>
      </p:pic>
      <p:sp>
        <p:nvSpPr>
          <p:cNvPr id="1459" name="矩形 113666"/>
          <p:cNvSpPr/>
          <p:nvPr/>
        </p:nvSpPr>
        <p:spPr>
          <a:xfrm>
            <a:off x="6173640" y="232236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图片 112641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810640" cy="6093000"/>
          </a:xfrm>
          <a:prstGeom prst="rect">
            <a:avLst/>
          </a:prstGeom>
          <a:ln w="0">
            <a:noFill/>
          </a:ln>
        </p:spPr>
      </p:pic>
      <p:sp>
        <p:nvSpPr>
          <p:cNvPr id="1461" name="矩形 112642"/>
          <p:cNvSpPr/>
          <p:nvPr/>
        </p:nvSpPr>
        <p:spPr>
          <a:xfrm>
            <a:off x="8244000" y="126828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图片 111617" descr=""/>
          <p:cNvPicPr/>
          <p:nvPr/>
        </p:nvPicPr>
        <p:blipFill>
          <a:blip r:embed="rId1"/>
          <a:stretch/>
        </p:blipFill>
        <p:spPr>
          <a:xfrm>
            <a:off x="147600" y="1224000"/>
            <a:ext cx="8848800" cy="4410000"/>
          </a:xfrm>
          <a:prstGeom prst="rect">
            <a:avLst/>
          </a:prstGeom>
          <a:ln w="0">
            <a:noFill/>
          </a:ln>
        </p:spPr>
      </p:pic>
      <p:sp>
        <p:nvSpPr>
          <p:cNvPr id="1463" name="矩形 111618"/>
          <p:cNvSpPr/>
          <p:nvPr/>
        </p:nvSpPr>
        <p:spPr>
          <a:xfrm>
            <a:off x="5869080" y="4367160"/>
            <a:ext cx="2663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111619"/>
          <p:cNvSpPr/>
          <p:nvPr/>
        </p:nvSpPr>
        <p:spPr>
          <a:xfrm>
            <a:off x="4294080" y="521820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110593" descr=""/>
          <p:cNvPicPr/>
          <p:nvPr/>
        </p:nvPicPr>
        <p:blipFill>
          <a:blip r:embed="rId1"/>
          <a:stretch/>
        </p:blipFill>
        <p:spPr>
          <a:xfrm>
            <a:off x="90360" y="1666800"/>
            <a:ext cx="8963280" cy="3524400"/>
          </a:xfrm>
          <a:prstGeom prst="rect">
            <a:avLst/>
          </a:prstGeom>
          <a:ln w="0">
            <a:noFill/>
          </a:ln>
        </p:spPr>
      </p:pic>
      <p:sp>
        <p:nvSpPr>
          <p:cNvPr id="1466" name="矩形 110594"/>
          <p:cNvSpPr/>
          <p:nvPr/>
        </p:nvSpPr>
        <p:spPr>
          <a:xfrm>
            <a:off x="1487520" y="3389400"/>
            <a:ext cx="35892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110595"/>
          <p:cNvSpPr/>
          <p:nvPr/>
        </p:nvSpPr>
        <p:spPr>
          <a:xfrm>
            <a:off x="2211480" y="4684680"/>
            <a:ext cx="365580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图片 109569" descr=""/>
          <p:cNvPicPr/>
          <p:nvPr/>
        </p:nvPicPr>
        <p:blipFill>
          <a:blip r:embed="rId1"/>
          <a:stretch/>
        </p:blipFill>
        <p:spPr>
          <a:xfrm>
            <a:off x="119160" y="1319040"/>
            <a:ext cx="8905680" cy="4219920"/>
          </a:xfrm>
          <a:prstGeom prst="rect">
            <a:avLst/>
          </a:prstGeom>
          <a:ln w="0">
            <a:noFill/>
          </a:ln>
        </p:spPr>
      </p:pic>
      <p:sp>
        <p:nvSpPr>
          <p:cNvPr id="1469" name="矩形 109570"/>
          <p:cNvSpPr/>
          <p:nvPr/>
        </p:nvSpPr>
        <p:spPr>
          <a:xfrm>
            <a:off x="8244000" y="380844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09571"/>
          <p:cNvSpPr/>
          <p:nvPr/>
        </p:nvSpPr>
        <p:spPr>
          <a:xfrm>
            <a:off x="5132520" y="4227480"/>
            <a:ext cx="3400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09572"/>
          <p:cNvSpPr/>
          <p:nvPr/>
        </p:nvSpPr>
        <p:spPr>
          <a:xfrm>
            <a:off x="1131840" y="5065560"/>
            <a:ext cx="66801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2" name="图片 108545" descr=""/>
          <p:cNvPicPr/>
          <p:nvPr/>
        </p:nvPicPr>
        <p:blipFill>
          <a:blip r:embed="rId1"/>
          <a:stretch/>
        </p:blipFill>
        <p:spPr>
          <a:xfrm>
            <a:off x="414360" y="1943280"/>
            <a:ext cx="8315280" cy="2971800"/>
          </a:xfrm>
          <a:prstGeom prst="rect">
            <a:avLst/>
          </a:prstGeom>
          <a:ln w="0">
            <a:noFill/>
          </a:ln>
        </p:spPr>
      </p:pic>
      <p:sp>
        <p:nvSpPr>
          <p:cNvPr id="1473" name="矩形 108546"/>
          <p:cNvSpPr/>
          <p:nvPr/>
        </p:nvSpPr>
        <p:spPr>
          <a:xfrm>
            <a:off x="2440080" y="2360520"/>
            <a:ext cx="4219560" cy="4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108547"/>
          <p:cNvSpPr/>
          <p:nvPr/>
        </p:nvSpPr>
        <p:spPr>
          <a:xfrm>
            <a:off x="5958000" y="3693960"/>
            <a:ext cx="70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108548"/>
          <p:cNvSpPr/>
          <p:nvPr/>
        </p:nvSpPr>
        <p:spPr>
          <a:xfrm>
            <a:off x="6237360" y="4100400"/>
            <a:ext cx="998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图片 107521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810640" cy="1238400"/>
          </a:xfrm>
          <a:prstGeom prst="rect">
            <a:avLst/>
          </a:prstGeom>
          <a:ln w="0">
            <a:noFill/>
          </a:ln>
        </p:spPr>
      </p:pic>
      <p:pic>
        <p:nvPicPr>
          <p:cNvPr id="1477" name="图片 107522" descr=""/>
          <p:cNvPicPr/>
          <p:nvPr/>
        </p:nvPicPr>
        <p:blipFill>
          <a:blip r:embed="rId2"/>
          <a:stretch/>
        </p:blipFill>
        <p:spPr>
          <a:xfrm>
            <a:off x="539640" y="2565360"/>
            <a:ext cx="8325000" cy="2524320"/>
          </a:xfrm>
          <a:prstGeom prst="rect">
            <a:avLst/>
          </a:prstGeom>
          <a:ln w="0">
            <a:noFill/>
          </a:ln>
        </p:spPr>
      </p:pic>
      <p:sp>
        <p:nvSpPr>
          <p:cNvPr id="1478" name="矩形 107523"/>
          <p:cNvSpPr/>
          <p:nvPr/>
        </p:nvSpPr>
        <p:spPr>
          <a:xfrm>
            <a:off x="5742000" y="1560600"/>
            <a:ext cx="3151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107524"/>
          <p:cNvSpPr/>
          <p:nvPr/>
        </p:nvSpPr>
        <p:spPr>
          <a:xfrm>
            <a:off x="1170000" y="1979640"/>
            <a:ext cx="1098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07525"/>
          <p:cNvSpPr/>
          <p:nvPr/>
        </p:nvSpPr>
        <p:spPr>
          <a:xfrm>
            <a:off x="3290760" y="2576520"/>
            <a:ext cx="22179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07526"/>
          <p:cNvSpPr/>
          <p:nvPr/>
        </p:nvSpPr>
        <p:spPr>
          <a:xfrm>
            <a:off x="1487520" y="3427560"/>
            <a:ext cx="780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124929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829720" cy="3648240"/>
          </a:xfrm>
          <a:prstGeom prst="rect">
            <a:avLst/>
          </a:prstGeom>
          <a:ln w="0">
            <a:noFill/>
          </a:ln>
        </p:spPr>
      </p:pic>
      <p:sp>
        <p:nvSpPr>
          <p:cNvPr id="1434" name="矩形 124930"/>
          <p:cNvSpPr/>
          <p:nvPr/>
        </p:nvSpPr>
        <p:spPr>
          <a:xfrm>
            <a:off x="8244000" y="371628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图片 106497" descr=""/>
          <p:cNvPicPr/>
          <p:nvPr/>
        </p:nvPicPr>
        <p:blipFill>
          <a:blip r:embed="rId1"/>
          <a:stretch/>
        </p:blipFill>
        <p:spPr>
          <a:xfrm>
            <a:off x="190440" y="1371600"/>
            <a:ext cx="8763120" cy="4114800"/>
          </a:xfrm>
          <a:prstGeom prst="rect">
            <a:avLst/>
          </a:prstGeom>
          <a:ln w="0">
            <a:noFill/>
          </a:ln>
        </p:spPr>
      </p:pic>
      <p:sp>
        <p:nvSpPr>
          <p:cNvPr id="1483" name="矩形 106498"/>
          <p:cNvSpPr/>
          <p:nvPr/>
        </p:nvSpPr>
        <p:spPr>
          <a:xfrm>
            <a:off x="8180280" y="1789200"/>
            <a:ext cx="7128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106499"/>
          <p:cNvSpPr/>
          <p:nvPr/>
        </p:nvSpPr>
        <p:spPr>
          <a:xfrm>
            <a:off x="878040" y="2195640"/>
            <a:ext cx="7128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106500"/>
          <p:cNvSpPr/>
          <p:nvPr/>
        </p:nvSpPr>
        <p:spPr>
          <a:xfrm>
            <a:off x="1131840" y="3059280"/>
            <a:ext cx="7128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图片 125953" descr=""/>
          <p:cNvPicPr/>
          <p:nvPr/>
        </p:nvPicPr>
        <p:blipFill>
          <a:blip r:embed="rId1"/>
          <a:stretch/>
        </p:blipFill>
        <p:spPr>
          <a:xfrm>
            <a:off x="338040" y="1728720"/>
            <a:ext cx="8467920" cy="3400560"/>
          </a:xfrm>
          <a:prstGeom prst="rect">
            <a:avLst/>
          </a:prstGeom>
          <a:ln w="0">
            <a:noFill/>
          </a:ln>
        </p:spPr>
      </p:pic>
      <p:sp>
        <p:nvSpPr>
          <p:cNvPr id="1487" name="矩形 125954"/>
          <p:cNvSpPr/>
          <p:nvPr/>
        </p:nvSpPr>
        <p:spPr>
          <a:xfrm>
            <a:off x="2173320" y="2144880"/>
            <a:ext cx="814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125955"/>
          <p:cNvSpPr/>
          <p:nvPr/>
        </p:nvSpPr>
        <p:spPr>
          <a:xfrm>
            <a:off x="2643120" y="3859200"/>
            <a:ext cx="814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125956"/>
          <p:cNvSpPr/>
          <p:nvPr/>
        </p:nvSpPr>
        <p:spPr>
          <a:xfrm>
            <a:off x="4713120" y="4265640"/>
            <a:ext cx="41068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125957"/>
          <p:cNvSpPr/>
          <p:nvPr/>
        </p:nvSpPr>
        <p:spPr>
          <a:xfrm>
            <a:off x="636480" y="4710240"/>
            <a:ext cx="814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1" name="图片 126977" descr=""/>
          <p:cNvPicPr/>
          <p:nvPr/>
        </p:nvPicPr>
        <p:blipFill>
          <a:blip r:embed="rId1"/>
          <a:stretch/>
        </p:blipFill>
        <p:spPr>
          <a:xfrm>
            <a:off x="109440" y="1728720"/>
            <a:ext cx="8925120" cy="3400560"/>
          </a:xfrm>
          <a:prstGeom prst="rect">
            <a:avLst/>
          </a:prstGeom>
          <a:ln w="0">
            <a:noFill/>
          </a:ln>
        </p:spPr>
      </p:pic>
      <p:sp>
        <p:nvSpPr>
          <p:cNvPr id="1492" name="矩形 126978"/>
          <p:cNvSpPr/>
          <p:nvPr/>
        </p:nvSpPr>
        <p:spPr>
          <a:xfrm>
            <a:off x="1373040" y="3402000"/>
            <a:ext cx="3559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126979"/>
          <p:cNvSpPr/>
          <p:nvPr/>
        </p:nvSpPr>
        <p:spPr>
          <a:xfrm>
            <a:off x="3786120" y="4672080"/>
            <a:ext cx="34498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4" name="图片 128001" descr=""/>
          <p:cNvPicPr/>
          <p:nvPr/>
        </p:nvPicPr>
        <p:blipFill>
          <a:blip r:embed="rId1"/>
          <a:stretch/>
        </p:blipFill>
        <p:spPr>
          <a:xfrm>
            <a:off x="228600" y="692280"/>
            <a:ext cx="8915400" cy="5886360"/>
          </a:xfrm>
          <a:prstGeom prst="rect">
            <a:avLst/>
          </a:prstGeom>
          <a:ln w="0">
            <a:noFill/>
          </a:ln>
        </p:spPr>
      </p:pic>
      <p:sp>
        <p:nvSpPr>
          <p:cNvPr id="1495" name="矩形 128002"/>
          <p:cNvSpPr/>
          <p:nvPr/>
        </p:nvSpPr>
        <p:spPr>
          <a:xfrm>
            <a:off x="3735360" y="3859200"/>
            <a:ext cx="692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128003"/>
          <p:cNvSpPr/>
          <p:nvPr/>
        </p:nvSpPr>
        <p:spPr>
          <a:xfrm>
            <a:off x="4878360" y="4316400"/>
            <a:ext cx="221472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128004"/>
          <p:cNvSpPr/>
          <p:nvPr/>
        </p:nvSpPr>
        <p:spPr>
          <a:xfrm>
            <a:off x="5018040" y="4875120"/>
            <a:ext cx="38750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矩形 128005"/>
          <p:cNvSpPr/>
          <p:nvPr/>
        </p:nvSpPr>
        <p:spPr>
          <a:xfrm>
            <a:off x="1258920" y="5281560"/>
            <a:ext cx="865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矩形 128006"/>
          <p:cNvSpPr/>
          <p:nvPr/>
        </p:nvSpPr>
        <p:spPr>
          <a:xfrm>
            <a:off x="5195880" y="5713560"/>
            <a:ext cx="1392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矩形 128007"/>
          <p:cNvSpPr/>
          <p:nvPr/>
        </p:nvSpPr>
        <p:spPr>
          <a:xfrm>
            <a:off x="2567160" y="6119640"/>
            <a:ext cx="865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1" name="图片 129025" descr=""/>
          <p:cNvPicPr/>
          <p:nvPr/>
        </p:nvPicPr>
        <p:blipFill>
          <a:blip r:embed="rId1"/>
          <a:stretch/>
        </p:blipFill>
        <p:spPr>
          <a:xfrm>
            <a:off x="119160" y="1324080"/>
            <a:ext cx="8905680" cy="4209840"/>
          </a:xfrm>
          <a:prstGeom prst="rect">
            <a:avLst/>
          </a:prstGeom>
          <a:ln w="0">
            <a:noFill/>
          </a:ln>
        </p:spPr>
      </p:pic>
      <p:sp>
        <p:nvSpPr>
          <p:cNvPr id="1502" name="矩形 129026"/>
          <p:cNvSpPr/>
          <p:nvPr/>
        </p:nvSpPr>
        <p:spPr>
          <a:xfrm>
            <a:off x="1220760" y="2982960"/>
            <a:ext cx="2127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矩形 129027"/>
          <p:cNvSpPr/>
          <p:nvPr/>
        </p:nvSpPr>
        <p:spPr>
          <a:xfrm>
            <a:off x="3710160" y="5091120"/>
            <a:ext cx="790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4" name="图片 130049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505720" cy="5905440"/>
          </a:xfrm>
          <a:prstGeom prst="rect">
            <a:avLst/>
          </a:prstGeom>
          <a:ln w="0">
            <a:noFill/>
          </a:ln>
        </p:spPr>
      </p:pic>
      <p:sp>
        <p:nvSpPr>
          <p:cNvPr id="1505" name="矩形 130050"/>
          <p:cNvSpPr/>
          <p:nvPr/>
        </p:nvSpPr>
        <p:spPr>
          <a:xfrm>
            <a:off x="5653080" y="1090440"/>
            <a:ext cx="3095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矩形 130051"/>
          <p:cNvSpPr/>
          <p:nvPr/>
        </p:nvSpPr>
        <p:spPr>
          <a:xfrm>
            <a:off x="826920" y="1484280"/>
            <a:ext cx="4392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矩形 130052"/>
          <p:cNvSpPr/>
          <p:nvPr/>
        </p:nvSpPr>
        <p:spPr>
          <a:xfrm>
            <a:off x="8142120" y="2792520"/>
            <a:ext cx="6066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矩形 130053"/>
          <p:cNvSpPr/>
          <p:nvPr/>
        </p:nvSpPr>
        <p:spPr>
          <a:xfrm>
            <a:off x="1042920" y="3213000"/>
            <a:ext cx="3745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矩形 130054"/>
          <p:cNvSpPr/>
          <p:nvPr/>
        </p:nvSpPr>
        <p:spPr>
          <a:xfrm>
            <a:off x="3075120" y="4481640"/>
            <a:ext cx="40179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矩形 130055"/>
          <p:cNvSpPr/>
          <p:nvPr/>
        </p:nvSpPr>
        <p:spPr>
          <a:xfrm>
            <a:off x="1017720" y="4913280"/>
            <a:ext cx="182556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矩形 130056"/>
          <p:cNvSpPr/>
          <p:nvPr/>
        </p:nvSpPr>
        <p:spPr>
          <a:xfrm>
            <a:off x="763560" y="6170760"/>
            <a:ext cx="5896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5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2" name="图片 131073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8724960" cy="6076800"/>
          </a:xfrm>
          <a:prstGeom prst="rect">
            <a:avLst/>
          </a:prstGeom>
          <a:ln w="0">
            <a:noFill/>
          </a:ln>
        </p:spPr>
      </p:pic>
      <p:sp>
        <p:nvSpPr>
          <p:cNvPr id="1513" name="矩形 131074"/>
          <p:cNvSpPr/>
          <p:nvPr/>
        </p:nvSpPr>
        <p:spPr>
          <a:xfrm>
            <a:off x="4827600" y="248760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矩形 131075"/>
          <p:cNvSpPr/>
          <p:nvPr/>
        </p:nvSpPr>
        <p:spPr>
          <a:xfrm>
            <a:off x="700200" y="3363840"/>
            <a:ext cx="76881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矩形 131076"/>
          <p:cNvSpPr/>
          <p:nvPr/>
        </p:nvSpPr>
        <p:spPr>
          <a:xfrm>
            <a:off x="700200" y="3833640"/>
            <a:ext cx="7688160" cy="462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矩形 131077"/>
          <p:cNvSpPr/>
          <p:nvPr/>
        </p:nvSpPr>
        <p:spPr>
          <a:xfrm>
            <a:off x="662040" y="4367160"/>
            <a:ext cx="768816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矩形 131078"/>
          <p:cNvSpPr/>
          <p:nvPr/>
        </p:nvSpPr>
        <p:spPr>
          <a:xfrm>
            <a:off x="611280" y="5180040"/>
            <a:ext cx="7688160" cy="66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矩形 131079"/>
          <p:cNvSpPr/>
          <p:nvPr/>
        </p:nvSpPr>
        <p:spPr>
          <a:xfrm>
            <a:off x="674640" y="5891040"/>
            <a:ext cx="76881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矩形 131080"/>
          <p:cNvSpPr/>
          <p:nvPr/>
        </p:nvSpPr>
        <p:spPr>
          <a:xfrm>
            <a:off x="674640" y="6348240"/>
            <a:ext cx="76881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7" dur="1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2" dur="1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1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1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7" dur="1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2" dur="10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123905" descr=""/>
          <p:cNvPicPr/>
          <p:nvPr/>
        </p:nvPicPr>
        <p:blipFill>
          <a:blip r:embed="rId1"/>
          <a:stretch/>
        </p:blipFill>
        <p:spPr>
          <a:xfrm>
            <a:off x="176040" y="1314360"/>
            <a:ext cx="8791920" cy="4229280"/>
          </a:xfrm>
          <a:prstGeom prst="rect">
            <a:avLst/>
          </a:prstGeom>
          <a:ln w="0">
            <a:noFill/>
          </a:ln>
        </p:spPr>
      </p:pic>
      <p:sp>
        <p:nvSpPr>
          <p:cNvPr id="1436" name="矩形 123906"/>
          <p:cNvSpPr/>
          <p:nvPr/>
        </p:nvSpPr>
        <p:spPr>
          <a:xfrm>
            <a:off x="8244000" y="126828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7" name="图片 122881" descr=""/>
          <p:cNvPicPr/>
          <p:nvPr/>
        </p:nvPicPr>
        <p:blipFill>
          <a:blip r:embed="rId1"/>
          <a:stretch/>
        </p:blipFill>
        <p:spPr>
          <a:xfrm>
            <a:off x="142920" y="824040"/>
            <a:ext cx="8858160" cy="5209920"/>
          </a:xfrm>
          <a:prstGeom prst="rect">
            <a:avLst/>
          </a:prstGeom>
          <a:ln w="0">
            <a:noFill/>
          </a:ln>
        </p:spPr>
      </p:pic>
      <p:sp>
        <p:nvSpPr>
          <p:cNvPr id="1438" name="矩形 122882"/>
          <p:cNvSpPr/>
          <p:nvPr/>
        </p:nvSpPr>
        <p:spPr>
          <a:xfrm>
            <a:off x="8172360" y="76500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2883"/>
          <p:cNvSpPr/>
          <p:nvPr/>
        </p:nvSpPr>
        <p:spPr>
          <a:xfrm>
            <a:off x="8197920" y="514656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0" name="图片 121857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848800" cy="3105000"/>
          </a:xfrm>
          <a:prstGeom prst="rect">
            <a:avLst/>
          </a:prstGeom>
          <a:ln w="0">
            <a:noFill/>
          </a:ln>
        </p:spPr>
      </p:pic>
      <p:pic>
        <p:nvPicPr>
          <p:cNvPr id="1441" name="图片 121858" descr=""/>
          <p:cNvPicPr/>
          <p:nvPr/>
        </p:nvPicPr>
        <p:blipFill>
          <a:blip r:embed="rId2"/>
          <a:stretch/>
        </p:blipFill>
        <p:spPr>
          <a:xfrm>
            <a:off x="539640" y="4508640"/>
            <a:ext cx="8467920" cy="885600"/>
          </a:xfrm>
          <a:prstGeom prst="rect">
            <a:avLst/>
          </a:prstGeom>
          <a:ln w="0">
            <a:noFill/>
          </a:ln>
        </p:spPr>
      </p:pic>
      <p:sp>
        <p:nvSpPr>
          <p:cNvPr id="1442" name="矩形 121859"/>
          <p:cNvSpPr/>
          <p:nvPr/>
        </p:nvSpPr>
        <p:spPr>
          <a:xfrm>
            <a:off x="8307360" y="175104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3" name="图片 120833" descr=""/>
          <p:cNvPicPr/>
          <p:nvPr/>
        </p:nvPicPr>
        <p:blipFill>
          <a:blip r:embed="rId1"/>
          <a:stretch/>
        </p:blipFill>
        <p:spPr>
          <a:xfrm>
            <a:off x="162000" y="861840"/>
            <a:ext cx="8820000" cy="5134320"/>
          </a:xfrm>
          <a:prstGeom prst="rect">
            <a:avLst/>
          </a:prstGeom>
          <a:ln w="0">
            <a:noFill/>
          </a:ln>
        </p:spPr>
      </p:pic>
      <p:sp>
        <p:nvSpPr>
          <p:cNvPr id="1444" name="矩形 120834"/>
          <p:cNvSpPr/>
          <p:nvPr/>
        </p:nvSpPr>
        <p:spPr>
          <a:xfrm>
            <a:off x="8205840" y="90000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图片 119809" descr=""/>
          <p:cNvPicPr/>
          <p:nvPr/>
        </p:nvPicPr>
        <p:blipFill>
          <a:blip r:embed="rId1"/>
          <a:stretch/>
        </p:blipFill>
        <p:spPr>
          <a:xfrm>
            <a:off x="162000" y="2109960"/>
            <a:ext cx="8820000" cy="2638080"/>
          </a:xfrm>
          <a:prstGeom prst="rect">
            <a:avLst/>
          </a:prstGeom>
          <a:ln w="0">
            <a:noFill/>
          </a:ln>
        </p:spPr>
      </p:pic>
      <p:sp>
        <p:nvSpPr>
          <p:cNvPr id="1446" name="矩形 119810"/>
          <p:cNvSpPr/>
          <p:nvPr/>
        </p:nvSpPr>
        <p:spPr>
          <a:xfrm>
            <a:off x="8172360" y="213372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图片 118785" descr=""/>
          <p:cNvPicPr/>
          <p:nvPr/>
        </p:nvPicPr>
        <p:blipFill>
          <a:blip r:embed="rId1"/>
          <a:stretch/>
        </p:blipFill>
        <p:spPr>
          <a:xfrm>
            <a:off x="176040" y="1871640"/>
            <a:ext cx="8791920" cy="3114720"/>
          </a:xfrm>
          <a:prstGeom prst="rect">
            <a:avLst/>
          </a:prstGeom>
          <a:ln w="0">
            <a:noFill/>
          </a:ln>
        </p:spPr>
      </p:pic>
      <p:sp>
        <p:nvSpPr>
          <p:cNvPr id="1448" name="矩形 118786"/>
          <p:cNvSpPr/>
          <p:nvPr/>
        </p:nvSpPr>
        <p:spPr>
          <a:xfrm>
            <a:off x="8244000" y="249228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9" name="图片 117761" descr=""/>
          <p:cNvPicPr/>
          <p:nvPr/>
        </p:nvPicPr>
        <p:blipFill>
          <a:blip r:embed="rId1"/>
          <a:stretch/>
        </p:blipFill>
        <p:spPr>
          <a:xfrm>
            <a:off x="138240" y="1333440"/>
            <a:ext cx="8867520" cy="4191120"/>
          </a:xfrm>
          <a:prstGeom prst="rect">
            <a:avLst/>
          </a:prstGeom>
          <a:ln w="0">
            <a:noFill/>
          </a:ln>
        </p:spPr>
      </p:pic>
      <p:sp>
        <p:nvSpPr>
          <p:cNvPr id="1450" name="矩形 117762"/>
          <p:cNvSpPr/>
          <p:nvPr/>
        </p:nvSpPr>
        <p:spPr>
          <a:xfrm>
            <a:off x="8244000" y="134136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矩形 117763"/>
          <p:cNvSpPr/>
          <p:nvPr/>
        </p:nvSpPr>
        <p:spPr>
          <a:xfrm>
            <a:off x="8218440" y="404964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20:44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